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5.wmf" ContentType="image/x-wmf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0.jpeg" ContentType="image/jpeg"/>
  <Override PartName="/ppt/media/image14.wmf" ContentType="image/x-wmf"/>
  <Override PartName="/ppt/media/image6.png" ContentType="image/png"/>
  <Override PartName="/ppt/media/image15.png" ContentType="image/png"/>
  <Override PartName="/ppt/media/image18.png" ContentType="image/png"/>
  <Override PartName="/ppt/media/image28.jpeg" ContentType="image/jpeg"/>
  <Override PartName="/ppt/media/image13.png" ContentType="image/png"/>
  <Override PartName="/ppt/media/image8.wmf" ContentType="image/x-wmf"/>
  <Override PartName="/ppt/media/image30.jpeg" ContentType="image/jpeg"/>
  <Override PartName="/ppt/media/image7.wmf" ContentType="image/x-wmf"/>
  <Override PartName="/ppt/media/image34.jpeg" ContentType="image/jpeg"/>
  <Override PartName="/ppt/media/image37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jpeg" ContentType="image/jpeg"/>
  <Override PartName="/ppt/media/image38.png" ContentType="image/png"/>
  <Override PartName="/ppt/media/image9.wmf" ContentType="image/x-wmf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7280" y="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728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BF92573-4711-4A1D-A83A-7D22EC5C9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AA70944-4792-4A26-A57D-43D260D08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53FBA5-A168-4178-9496-2EFBC7C99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DFAFF24-92C1-4D43-BD8C-4CF7DF17F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A79683-402B-4774-AF8B-EA3C8ADC5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5466748-B785-4A42-AD0D-9D03A121D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65B7414-950D-412B-AA01-960F877A4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D1B4945-42A1-4930-9421-1F9EABE0C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AA51D71-46D7-428A-976C-935D05A09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7E43F2-53C3-4DEA-B121-1E57B0EA0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9B681B2-474B-42D9-A9F1-AF0724E99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7F1B1CF-EF67-4238-A87B-2C9CD5888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51D5AAC-8000-4B4B-93A1-EB5C1FD8A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2A8D5AB-F6F7-406E-A153-8881941B1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7640" y="8831160"/>
            <a:ext cx="297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D9B8358-8467-46CC-BA23-0B4AB77C2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249-214C-4C56-9129-7C05E5E9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2E59-3C7D-447A-854A-A0B79A0D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ECD2B-8397-49CE-A282-9ED70D27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DE3FE-E387-413E-A41D-4AE8847A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3CFF6-2161-4D75-ACD2-556C315F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DC274-CEA7-47FF-883E-0136214C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3BB9A-1D83-42D8-AD8A-80049377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081FFD-1FDE-4159-B702-11579CD4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C7B4D-EFA7-40CA-BB56-3328A5BC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D18F1-BA99-4F36-8A63-A31E5B5F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E4690-2AF8-4D88-850A-F4859078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838FC-DADA-4742-9BEE-53F7C9BA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5CA-9A19-42E8-B749-BB7E5BAB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92E41-54E1-46EF-A438-926DA069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8D7F0-11C6-497B-B695-F7480DEF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C9899-5E6B-4116-9717-EAC9D32B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03C3B-6737-4238-9828-5BDC4250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D5748-1971-45CA-BF6B-AFC762DF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BF76B-CA4E-4DFB-98A2-F72D246D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20163-A431-41BE-AD6D-913331BB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3A8A3-5340-44C1-9CD2-90CA313D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BCEFF-3BB8-4A9C-A3D9-FCFE8361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777EC-875C-423D-A2F7-1DE97E58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DE0-A872-496F-BA5E-DFEB2424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E878C-80D6-4661-8AF9-5B5E7466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AAE9D-F388-4CC1-9D6F-5FCB7CC0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B1556-5D91-470A-84B7-D174ECEA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F1583-26FA-48D0-BAF1-076C88A6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8116E-3C41-41AF-964F-8ABBB00E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205C8-3D1E-42B4-A973-4FF9A81E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C9DCA-E4DE-4E9D-879D-D16D993E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46523-1E6A-4374-87F0-2831277C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BFB69-BE98-41F7-9BEA-F2701D1B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D66F7-A014-453A-894F-1FC651F6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BE6C-8C18-4190-BE6A-BE98CB82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3063D-233F-4353-810B-A80D295E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9D0F8-64B3-4529-B97D-3FDE9D0E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7BC26-CA53-4B18-B1E0-EB665238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3EF21-AAE0-498F-A7DF-15DFD1F3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778ED-3101-4E47-8B20-F36F28FA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33D26-30CF-4545-998A-B1193802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FC4D3-27C5-44CF-81CA-4B16BCC4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C7345-8720-42E8-9371-F7789C6B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44A7D-1E73-423F-80CC-552F8328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0BB78-F1D4-4A6A-A14C-7454563F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FF36-3576-4887-8D47-DCC99AFB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76678-8769-4D3E-B866-1CD94558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C6586-1E96-49D7-AA89-569D7CAE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7BE6E-BE7E-482A-BAF8-02DFFFEA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B7D0E-A5EB-4FE3-BF12-E06DE80D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09B39-1523-4CC7-8431-E0D685B9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445A-C37A-4F59-AEEF-33A16092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7948-9DDD-4E15-964F-DB051DE4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E596-4BC2-4DCA-B9D3-9E3926D2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3EE2-8835-48C9-A8AE-DA3AB96D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CB0B-FD65-4E67-B2A9-0B686EFB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A93-0DC9-4D89-B83D-EAD66F32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2C9D-B1AB-465C-9BC5-8EFC9882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0576-D8FC-4BA8-A429-F9284E61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D34B-8E29-4F1F-9A93-C162DF4A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F115-8D54-459D-9FEA-3730B12F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A5D7-1253-4FC3-921F-6C064C0F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76A77-C523-4BEC-8415-8B61B815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1AA14-AF29-49FB-A1D9-82CC9D3C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49816-50FE-43C2-9620-19BFBAEA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2FB49-E10C-4D43-8AB2-3C6FFE57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D61D3-A425-4AC5-90AA-AAE3B199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9CDF-7C8D-4162-9549-357F47DB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DA767-D02F-4335-8847-277B6426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58D83-5746-4F97-A040-B452D835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E1E93-98CF-4073-85FA-CC2C9B2E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B8F8C-007A-4D87-9578-B98C7568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F654D-6810-4D59-9671-CEFB6537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CF650-2447-4093-A4BD-2B62FE71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A245A-EBDE-42A4-B689-0DC9B0BF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94D24-ED73-4150-9881-A175490B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97D5D-5324-42B0-971F-749A4128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58132-2683-47D2-990E-78B46C52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8A2F-58C2-4714-BB1A-6E926F2C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9EA16-DA1D-45AA-AC97-E74A03C6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49B58-6980-43BC-BF36-E1DCFBEA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B20F5-59D6-4FBA-9A29-7257F859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D6A66-1263-49C8-98CB-8B5134D2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95438-07D9-4127-AC40-B9999AF7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83104-325C-419B-89A9-B86A128D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9AC2D-7776-4A73-A0ED-A107FFEA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BE7DF-A065-4766-BC01-82EBDBDD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3FF7D-6EBC-4004-8217-FF4BDCA5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76FA1-7EB8-4D38-8938-1934F2D7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E714-9C25-4D73-AB2E-9E42EF4F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2E162-B86D-4852-8CDD-F579193A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738FC-B0DC-4B84-958E-ACFA630D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B59E5-3825-4167-BF3D-3B60F076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BD838-D840-4E5B-A522-6738B491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5F71A-66BC-48F3-942B-1A24AA50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C3A22-3436-4532-8E1F-79AB6DE4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E82E1-FB15-4A7D-94B1-E06C8320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30010-94C4-497D-93CC-D3B83A82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7B01C-582B-4E3A-98DB-BE3CB0AF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AC435-2541-4323-9DD0-B68C56AA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5D45-2EFB-42B6-B9D7-F7C27518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F8EAC-AEE2-4E21-B1D9-EB2EDCEA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7CBF9-C4F1-4C6F-B5FF-C44F93ED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49B00-7A40-4B68-915D-8A15311F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30F85-A2F0-40B0-91D2-113F8D14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B48DD-BE29-49C8-B09D-2C065B13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891B1-94A4-45ED-AFCE-93FF2267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E8A8A-26FB-4E58-989D-12803806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12D97-716A-4A47-B24E-1217038B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6A618-A768-48A1-9DC9-EF2555FC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36D7F-1202-4FD0-8C6B-04DF7501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775B-3C0F-46C8-8A70-587845BE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6DD6E-254C-4DF3-8BDE-B716C2B3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674E7-8CE7-4D43-9E33-39E2BD7A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0EB4C-1A3C-45E9-B64D-E55029A5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9ACA6-7302-4B5F-A72B-B1A955C7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824E9-4607-459A-AEE9-EB1B08AB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56DA3-D628-48F3-BE6A-869F3DBE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8E37A-2F67-4E6E-B8FA-EDF4789C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3EB9A-86B4-4110-90C5-FC9CF3AC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B9CC3-0211-42B8-BCF4-9E824AB2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2D2AF-7474-4BC6-8761-401335E5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2006-FE91-4DC8-9B46-0ABECA9A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3E2C6-3BF4-4B74-BFDC-2D44E88E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E2AAA-CA95-4E7C-BA82-48D112AE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5AA4B-AA03-4E8E-9781-B8017FDD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B935E-2878-4B00-946B-DDF27BB4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ECFE5-D4EC-4AC6-BA0C-ABA710FE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ADDB5-4244-488B-AAAD-F701553A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A19B0-D930-43B7-9BA6-78D448BE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F4B7A-4802-4E08-A2EB-B16E5185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1DBA4-809D-4DD5-80DB-03B97A81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C361D-8045-47B4-A00D-E1A63068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BE5-DD74-4234-B4E0-DA7D7FD4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F9810-74E1-4CED-9293-F8CAC068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2CCF1-EB38-419E-A883-BF53E6F2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7E7C6-C7B4-44ED-95DB-DD492BE4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E14BE-BF9E-4658-8BAC-0D595A01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6FF18-AD69-4307-9A40-15A0B169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CFE2A-8DC3-49CD-B3AD-951CE998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E95D0-AA32-4E6D-A92C-E2EB3725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42D36-3500-4BD4-A848-E4F68252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489E7-7E05-4ADD-870F-1A63826C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34815-2B57-433A-B9D1-1ECE4B2C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21.xml"/><Relationship Id="rId10" Type="http://schemas.openxmlformats.org/officeDocument/2006/relationships/slideLayout" Target="../slideLayouts/slideLayout122.xml"/><Relationship Id="rId11" Type="http://schemas.openxmlformats.org/officeDocument/2006/relationships/slideLayout" Target="../slideLayouts/slideLayout123.xml"/><Relationship Id="rId12" Type="http://schemas.openxmlformats.org/officeDocument/2006/relationships/slideLayout" Target="../slideLayouts/slideLayout124.xml"/><Relationship Id="rId13" Type="http://schemas.openxmlformats.org/officeDocument/2006/relationships/slideLayout" Target="../slideLayouts/slideLayout125.xml"/><Relationship Id="rId14" Type="http://schemas.openxmlformats.org/officeDocument/2006/relationships/slideLayout" Target="../slideLayouts/slideLayout126.xml"/><Relationship Id="rId15" Type="http://schemas.openxmlformats.org/officeDocument/2006/relationships/slideLayout" Target="../slideLayouts/slideLayout127.xml"/><Relationship Id="rId16" Type="http://schemas.openxmlformats.org/officeDocument/2006/relationships/slideLayout" Target="../slideLayouts/slideLayout128.xml"/><Relationship Id="rId17" Type="http://schemas.openxmlformats.org/officeDocument/2006/relationships/slideLayout" Target="../slideLayouts/slideLayout129.xml"/><Relationship Id="rId18" Type="http://schemas.openxmlformats.org/officeDocument/2006/relationships/slideLayout" Target="../slideLayouts/slideLayout130.xml"/><Relationship Id="rId19" Type="http://schemas.openxmlformats.org/officeDocument/2006/relationships/slideLayout" Target="../slideLayouts/slideLayout131.xml"/><Relationship Id="rId20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97.xml"/><Relationship Id="rId10" Type="http://schemas.openxmlformats.org/officeDocument/2006/relationships/slideLayout" Target="../slideLayouts/slideLayout98.xml"/><Relationship Id="rId11" Type="http://schemas.openxmlformats.org/officeDocument/2006/relationships/slideLayout" Target="../slideLayouts/slideLayout99.xml"/><Relationship Id="rId12" Type="http://schemas.openxmlformats.org/officeDocument/2006/relationships/slideLayout" Target="../slideLayouts/slideLayout100.xml"/><Relationship Id="rId13" Type="http://schemas.openxmlformats.org/officeDocument/2006/relationships/slideLayout" Target="../slideLayouts/slideLayout101.xml"/><Relationship Id="rId14" Type="http://schemas.openxmlformats.org/officeDocument/2006/relationships/slideLayout" Target="../slideLayouts/slideLayout102.xml"/><Relationship Id="rId15" Type="http://schemas.openxmlformats.org/officeDocument/2006/relationships/slideLayout" Target="../slideLayouts/slideLayout103.xml"/><Relationship Id="rId16" Type="http://schemas.openxmlformats.org/officeDocument/2006/relationships/slideLayout" Target="../slideLayouts/slideLayout104.xml"/><Relationship Id="rId17" Type="http://schemas.openxmlformats.org/officeDocument/2006/relationships/slideLayout" Target="../slideLayouts/slideLayout105.xml"/><Relationship Id="rId18" Type="http://schemas.openxmlformats.org/officeDocument/2006/relationships/slideLayout" Target="../slideLayouts/slideLayout106.xml"/><Relationship Id="rId19" Type="http://schemas.openxmlformats.org/officeDocument/2006/relationships/slideLayout" Target="../slideLayouts/slideLayout107.xml"/><Relationship Id="rId20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C27C-3AD8-4B78-BC40-BF6CD3AED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4D5A-AFC4-437C-AF20-F61DA1353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FA34-11B9-4AC2-8284-4163FB3A4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9"/>
    <p:sldLayoutId id="2147483780" r:id="rId10"/>
    <p:sldLayoutId id="2147483781" r:id="rId11"/>
    <p:sldLayoutId id="2147483782" r:id="rId12"/>
    <p:sldLayoutId id="2147483783" r:id="rId13"/>
    <p:sldLayoutId id="2147483784" r:id="rId14"/>
    <p:sldLayoutId id="2147483785" r:id="rId15"/>
    <p:sldLayoutId id="2147483786" r:id="rId16"/>
    <p:sldLayoutId id="2147483787" r:id="rId17"/>
    <p:sldLayoutId id="2147483788" r:id="rId18"/>
    <p:sldLayoutId id="2147483789" r:id="rId19"/>
    <p:sldLayoutId id="2147483790" r:id="rId20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31D6-84AB-4D1A-BC69-96166B146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5A8F-4CD6-41E2-8A2E-719CF2F29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6193-7E5A-4A58-AA67-96C0B6C36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293C-CE04-4BDE-A264-6B12A50E9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4016-78C2-4994-AC60-88933F001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4C37-BE5E-4C11-9BDB-943F38D41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956C-9856-43FC-B1CD-CC42417D6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D9EE-9725-4EC2-A5DC-A702F4EEB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2" marL="1084320" indent="-16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1572-CA4F-4149-9CDD-485B3685A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9"/>
    <p:sldLayoutId id="2147483754" r:id="rId10"/>
    <p:sldLayoutId id="2147483755" r:id="rId11"/>
    <p:sldLayoutId id="2147483756" r:id="rId12"/>
    <p:sldLayoutId id="2147483757" r:id="rId13"/>
    <p:sldLayoutId id="2147483758" r:id="rId14"/>
    <p:sldLayoutId id="2147483759" r:id="rId15"/>
    <p:sldLayoutId id="2147483760" r:id="rId16"/>
    <p:sldLayoutId id="2147483761" r:id="rId17"/>
    <p:sldLayoutId id="2147483762" r:id="rId18"/>
    <p:sldLayoutId id="2147483763" r:id="rId19"/>
    <p:sldLayoutId id="2147483764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36.jpeg"/><Relationship Id="rId1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4"/>
          <p:cNvSpPr/>
          <p:nvPr/>
        </p:nvSpPr>
        <p:spPr>
          <a:xfrm>
            <a:off x="0" y="5257800"/>
            <a:ext cx="914400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5172120"/>
          </a:xfrm>
          <a:prstGeom prst="rect">
            <a:avLst/>
          </a:prstGeom>
          <a:ln w="0">
            <a:noFill/>
          </a:ln>
        </p:spPr>
      </p:pic>
      <p:sp>
        <p:nvSpPr>
          <p:cNvPr id="502" name="TextBox 12"/>
          <p:cNvSpPr/>
          <p:nvPr/>
        </p:nvSpPr>
        <p:spPr>
          <a:xfrm>
            <a:off x="0" y="228600"/>
            <a:ext cx="5105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t KET help you explore the Art of Kentucky and the Art of the World ! </a:t>
            </a:r>
            <a:endParaRPr b="0" lang="en-US" sz="40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03" name="TextBox 13"/>
          <p:cNvSpPr/>
          <p:nvPr/>
        </p:nvSpPr>
        <p:spPr>
          <a:xfrm>
            <a:off x="0" y="540216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Arial"/>
              </a:rPr>
              <a:t>KET Instructional Art Resources</a:t>
            </a:r>
            <a:endParaRPr b="0" lang="en-US" sz="4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04" name="Rectangle 15"/>
          <p:cNvSpPr/>
          <p:nvPr/>
        </p:nvSpPr>
        <p:spPr>
          <a:xfrm rot="20299200">
            <a:off x="1429920" y="3874680"/>
            <a:ext cx="1371600" cy="990720"/>
          </a:xfrm>
          <a:prstGeom prst="rect">
            <a:avLst/>
          </a:prstGeom>
          <a:solidFill>
            <a:srgbClr val="ffff00">
              <a:alpha val="8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05" name="Rectangle 16"/>
          <p:cNvSpPr/>
          <p:nvPr/>
        </p:nvSpPr>
        <p:spPr>
          <a:xfrm rot="20299200">
            <a:off x="2801520" y="3417480"/>
            <a:ext cx="1371600" cy="990720"/>
          </a:xfrm>
          <a:prstGeom prst="rect">
            <a:avLst/>
          </a:prstGeom>
          <a:solidFill>
            <a:srgbClr val="ffff00">
              <a:alpha val="5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06" name="Rectangle 17"/>
          <p:cNvSpPr/>
          <p:nvPr/>
        </p:nvSpPr>
        <p:spPr>
          <a:xfrm rot="20299200">
            <a:off x="3259080" y="3722400"/>
            <a:ext cx="1371600" cy="990360"/>
          </a:xfrm>
          <a:prstGeom prst="rect">
            <a:avLst/>
          </a:prstGeom>
          <a:solidFill>
            <a:srgbClr val="ffff00">
              <a:alpha val="2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07" name="Rectangle 18"/>
          <p:cNvSpPr/>
          <p:nvPr/>
        </p:nvSpPr>
        <p:spPr>
          <a:xfrm rot="20299200">
            <a:off x="2192040" y="3341160"/>
            <a:ext cx="1371600" cy="990720"/>
          </a:xfrm>
          <a:prstGeom prst="rect">
            <a:avLst/>
          </a:prstGeom>
          <a:solidFill>
            <a:srgbClr val="ffff00">
              <a:alpha val="8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08" name="Rectangle 20"/>
          <p:cNvSpPr/>
          <p:nvPr/>
        </p:nvSpPr>
        <p:spPr>
          <a:xfrm rot="20299200">
            <a:off x="3944880" y="3951000"/>
            <a:ext cx="1371600" cy="990360"/>
          </a:xfrm>
          <a:prstGeom prst="rect">
            <a:avLst/>
          </a:prstGeom>
          <a:solidFill>
            <a:srgbClr val="ffff00">
              <a:alpha val="8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-228600" y="0"/>
            <a:ext cx="91440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600" spc="-1" strike="noStrike">
                <a:solidFill>
                  <a:srgbClr val="ffcc18"/>
                </a:solidFill>
                <a:latin typeface="Arial"/>
              </a:rPr>
              <a:t>Kentucky Muse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ttp://www.ket.org/muse/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43" name="AutoShape 8"/>
          <p:cNvSpPr/>
          <p:nvPr/>
        </p:nvSpPr>
        <p:spPr>
          <a:xfrm>
            <a:off x="5029200" y="29718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59840" cy="6095880"/>
          </a:xfrm>
          <a:prstGeom prst="rect">
            <a:avLst/>
          </a:prstGeom>
          <a:ln w="0">
            <a:noFill/>
          </a:ln>
        </p:spPr>
      </p:pic>
      <p:sp>
        <p:nvSpPr>
          <p:cNvPr id="545" name="Action Button: Custom 6"/>
          <p:cNvSpPr/>
          <p:nvPr/>
        </p:nvSpPr>
        <p:spPr>
          <a:xfrm>
            <a:off x="4114800" y="0"/>
            <a:ext cx="4572000" cy="685800"/>
          </a:xfrm>
          <a:custGeom>
            <a:avLst/>
            <a:gdLst>
              <a:gd name="textAreaLeft" fmla="*/ 44280 w 4572000"/>
              <a:gd name="textAreaRight" fmla="*/ 4527720 w 4572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43936" h="21600">
                <a:moveTo>
                  <a:pt x="0" y="0"/>
                </a:moveTo>
                <a:lnTo>
                  <a:pt x="143936" y="0"/>
                </a:lnTo>
                <a:lnTo>
                  <a:pt x="143936" y="21600"/>
                </a:lnTo>
                <a:lnTo>
                  <a:pt x="0" y="21600"/>
                </a:lnTo>
                <a:close/>
              </a:path>
              <a:path fill="lightenLess" w="143936" h="21600">
                <a:moveTo>
                  <a:pt x="0" y="0"/>
                </a:moveTo>
                <a:lnTo>
                  <a:pt x="143936" y="0"/>
                </a:lnTo>
                <a:lnTo>
                  <a:pt x="142536" y="1400"/>
                </a:lnTo>
                <a:lnTo>
                  <a:pt x="1400" y="1400"/>
                </a:lnTo>
                <a:close/>
              </a:path>
              <a:path fill="darken" w="143936" h="21600">
                <a:moveTo>
                  <a:pt x="143936" y="0"/>
                </a:moveTo>
                <a:lnTo>
                  <a:pt x="143936" y="21600"/>
                </a:lnTo>
                <a:lnTo>
                  <a:pt x="142536" y="20200"/>
                </a:lnTo>
                <a:lnTo>
                  <a:pt x="142536" y="1400"/>
                </a:lnTo>
                <a:close/>
              </a:path>
              <a:path fill="darkenLess" w="143936" h="21600">
                <a:moveTo>
                  <a:pt x="1439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36" y="20200"/>
                </a:lnTo>
                <a:close/>
              </a:path>
              <a:path fill="lighten" w="1439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avie"/>
              </a:rPr>
              <a:t>The Arts Toolkit Series</a:t>
            </a:r>
            <a:endParaRPr b="1" lang="en-US" sz="40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800600" y="2666880"/>
            <a:ext cx="35812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rama Toolki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nd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Edition (2006)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48" name="Picture 4" descr="home_drama"/>
          <p:cNvPicPr/>
          <p:nvPr/>
        </p:nvPicPr>
        <p:blipFill>
          <a:blip r:embed="rId1"/>
          <a:stretch/>
        </p:blipFill>
        <p:spPr>
          <a:xfrm>
            <a:off x="2438280" y="2514600"/>
            <a:ext cx="1962360" cy="1305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home_dance"/>
          <p:cNvPicPr/>
          <p:nvPr/>
        </p:nvPicPr>
        <p:blipFill>
          <a:blip r:embed="rId2"/>
          <a:stretch/>
        </p:blipFill>
        <p:spPr>
          <a:xfrm>
            <a:off x="2743200" y="5334120"/>
            <a:ext cx="1943280" cy="13046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home_music"/>
          <p:cNvPicPr/>
          <p:nvPr/>
        </p:nvPicPr>
        <p:blipFill>
          <a:blip r:embed="rId3"/>
          <a:stretch/>
        </p:blipFill>
        <p:spPr>
          <a:xfrm>
            <a:off x="4648320" y="3886200"/>
            <a:ext cx="1942920" cy="13050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7" descr="home_visarts"/>
          <p:cNvPicPr/>
          <p:nvPr/>
        </p:nvPicPr>
        <p:blipFill>
          <a:blip r:embed="rId4"/>
          <a:stretch/>
        </p:blipFill>
        <p:spPr>
          <a:xfrm>
            <a:off x="4438800" y="1066680"/>
            <a:ext cx="1962000" cy="13050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11"/>
          <p:cNvSpPr/>
          <p:nvPr/>
        </p:nvSpPr>
        <p:spPr>
          <a:xfrm>
            <a:off x="1143000" y="1066680"/>
            <a:ext cx="30481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isual Arts Toolkit  </a:t>
            </a:r>
            <a:br>
              <a:rPr sz="24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(2005)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53" name="Text Box 12"/>
          <p:cNvSpPr/>
          <p:nvPr/>
        </p:nvSpPr>
        <p:spPr>
          <a:xfrm>
            <a:off x="4495680" y="5410080"/>
            <a:ext cx="39625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ance Toolkit 2</a:t>
            </a:r>
            <a:r>
              <a:rPr b="1" lang="en-US" sz="2400" spc="-1" strike="noStrike" u="sng" baseline="30000">
                <a:solidFill>
                  <a:srgbClr val="ffffff"/>
                </a:solidFill>
                <a:uFillTx/>
                <a:latin typeface="Arial"/>
              </a:rPr>
              <a:t>nd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Edition 2008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533520" y="41148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usic Arts Toolkit </a:t>
            </a:r>
            <a:br>
              <a:rPr sz="2400"/>
            </a:b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2007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086600" cy="84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Toolkit Copyright Policy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609480" y="205704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rts Toolkit is a coyrighted product.  Printed materials may be copied for use as student handouts or in a limited fashion for sharing with other teachers (for example, copying one lesson plan to share).  The Toolkit should not be copied in its entirety.  The Toolkit videos, DVD’s, and CD-ROM should not be copied” (5).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18"/>
                </a:solidFill>
                <a:uFillTx/>
                <a:latin typeface="Arial"/>
              </a:rPr>
              <a:t>What Are the Arts Toolkits?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533520" y="533520"/>
            <a:ext cx="739116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oolkits are not: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rts textbook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rt uni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et curricula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escriptive way of teaching the arts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ts toolkits are: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with flexibility in mind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for both the specialist and the generalis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ource for: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3048120" y="4038480"/>
            <a:ext cx="58672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fessional development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ective Teaching Suggestions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sson plans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 video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forms of media such as CDs, posters, transparencies, 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reference for other resour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buClr>
                <a:srgbClr val="ffcc1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c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Sections of Typical Toolkit Binder</a:t>
            </a:r>
            <a:br>
              <a:rPr sz="3600"/>
            </a:br>
            <a:r>
              <a:rPr b="1" lang="en-US" sz="2800" spc="-1" strike="noStrike">
                <a:solidFill>
                  <a:srgbClr val="ffcc18"/>
                </a:solidFill>
                <a:latin typeface="Arial"/>
              </a:rPr>
              <a:t>(Sections vary somewhat from Kit to Kit)</a:t>
            </a:r>
            <a:endParaRPr b="1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to and How to Use the Toolki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son Plan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ding to the medium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pecially for Primary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edium and its interface with Culture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iods and Styles 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Resource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ex 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62" name="Picture 5" descr="j0290152"/>
          <p:cNvPicPr/>
          <p:nvPr/>
        </p:nvPicPr>
        <p:blipFill>
          <a:blip r:embed="rId10"/>
          <a:stretch/>
        </p:blipFill>
        <p:spPr>
          <a:xfrm rot="21017400">
            <a:off x="5943600" y="4527360"/>
            <a:ext cx="2819520" cy="21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18"/>
                </a:solidFill>
                <a:latin typeface="Arial"/>
              </a:rPr>
              <a:t>A typical Toolkit lesson plan contains the following elements </a:t>
            </a:r>
            <a:r>
              <a:rPr b="1" lang="en-US" sz="2000" spc="-1" strike="noStrike">
                <a:solidFill>
                  <a:srgbClr val="ffcc18"/>
                </a:solidFill>
                <a:latin typeface="Arial"/>
              </a:rPr>
              <a:t>(using format developed by KDE)</a:t>
            </a:r>
            <a:r>
              <a:rPr b="1" lang="en-US" sz="3200" spc="-1" strike="noStrike">
                <a:solidFill>
                  <a:srgbClr val="ffcc18"/>
                </a:solidFill>
                <a:latin typeface="Arial"/>
              </a:rPr>
              <a:t> :</a:t>
            </a:r>
            <a:endParaRPr b="1" lang="en-US" sz="3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Grade level(s)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cademic expectation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Program of studie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re content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Essential question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ncept/objective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Portfolio-appropriate writing for the lesson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Toolkit resource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Instructional strategies and resource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dditional idea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upport, connections, and resource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pplications across the curriculum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Open response assessment and rubric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37073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Performance assessment and rubric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914400" y="5638680"/>
            <a:ext cx="632448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e957"/>
                </a:solidFill>
                <a:latin typeface="Arial"/>
              </a:rPr>
              <a:t>www.ket.org/artstoolki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67" name="Picture 9" descr="j0195384"/>
          <p:cNvPicPr/>
          <p:nvPr/>
        </p:nvPicPr>
        <p:blipFill>
          <a:blip r:embed="rId1"/>
          <a:stretch/>
        </p:blipFill>
        <p:spPr>
          <a:xfrm>
            <a:off x="7728120" y="5334120"/>
            <a:ext cx="1263600" cy="13716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14"/>
          <p:cNvSpPr/>
          <p:nvPr/>
        </p:nvSpPr>
        <p:spPr>
          <a:xfrm>
            <a:off x="1447920" y="1522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Arts Toolkit Website</a:t>
            </a:r>
            <a:endParaRPr b="0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69" name="Picture 17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6934320" cy="44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18"/>
                </a:solidFill>
                <a:latin typeface="Arial"/>
              </a:rPr>
              <a:t>The Visual Arts Toolkit</a:t>
            </a:r>
            <a:endParaRPr b="1" lang="en-US" sz="3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914400" y="19051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800240" y="9907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oolkit Component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ual Arts Video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y. Virtual Art Museum CD-Rom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r Transparencies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-ring binder of Lesson Plans and Information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lor “Purposes of Art” poster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ual Arts Idea Cards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s Toolkit Website Access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838080" y="477360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e Visual Arts Toolkit is the visual arts resource that Kentucky teachers have been asking for!  It is a great source  for the images, information, ideas, and inspiration needed for teaching Kentucky’s K-12 academic content.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74" name="Picture 16" descr=""/>
          <p:cNvPicPr/>
          <p:nvPr/>
        </p:nvPicPr>
        <p:blipFill>
          <a:blip r:embed="rId8"/>
          <a:stretch/>
        </p:blipFill>
        <p:spPr>
          <a:xfrm>
            <a:off x="963720" y="990720"/>
            <a:ext cx="33033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18"/>
                </a:solidFill>
                <a:latin typeface="Arial"/>
              </a:rPr>
              <a:t>The Visual Arts Toolkit Videos</a:t>
            </a:r>
            <a:endParaRPr b="1" lang="en-US" sz="3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914400" y="19051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800240" y="457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ding to Ar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Arts and Culture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ough Artist’s Eye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T to the Speed Museum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78" name="Picture 6" descr=""/>
          <p:cNvPicPr/>
          <p:nvPr/>
        </p:nvPicPr>
        <p:blipFill>
          <a:blip r:embed="rId5"/>
          <a:stretch/>
        </p:blipFill>
        <p:spPr>
          <a:xfrm>
            <a:off x="963720" y="990720"/>
            <a:ext cx="3303360" cy="373356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7" descr="MPj03163570000[1]"/>
          <p:cNvPicPr/>
          <p:nvPr/>
        </p:nvPicPr>
        <p:blipFill>
          <a:blip r:embed="rId6"/>
          <a:stretch/>
        </p:blipFill>
        <p:spPr>
          <a:xfrm>
            <a:off x="5181480" y="4038480"/>
            <a:ext cx="3657600" cy="24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18"/>
                </a:solidFill>
                <a:latin typeface="Arial"/>
              </a:rPr>
              <a:t>Sections of the Visual Arts Toolkit</a:t>
            </a:r>
            <a:endParaRPr b="1" lang="en-US" sz="40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50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the Toolki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ive Teaching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sson Plan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lossary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ding to Ar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Primary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 and Culture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 and Style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ing Ar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 works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ex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82" name="Picture 5" descr="home_visarts"/>
          <p:cNvPicPr/>
          <p:nvPr/>
        </p:nvPicPr>
        <p:blipFill>
          <a:blip r:embed="rId13"/>
          <a:stretch/>
        </p:blipFill>
        <p:spPr>
          <a:xfrm>
            <a:off x="4495680" y="2286000"/>
            <a:ext cx="380052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18"/>
                </a:solidFill>
                <a:uFillTx/>
                <a:latin typeface="Arial"/>
              </a:rPr>
              <a:t>Your Presenter Today is:</a:t>
            </a:r>
            <a:br>
              <a:rPr sz="3600"/>
            </a:b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533520" y="1066680"/>
            <a:ext cx="853416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rry Moore </a:t>
            </a: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T Education Consultant, North Central Region </a:t>
            </a: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ional Office # (502) 875-9002</a:t>
            </a: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oice Mail: (800) 432-0951, ext. 7264</a:t>
            </a: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-Mail: lmoore@ket.org</a:t>
            </a: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11" name="Picture 4" descr="MCPE01923_0000[1]"/>
          <p:cNvPicPr/>
          <p:nvPr/>
        </p:nvPicPr>
        <p:blipFill>
          <a:blip r:embed="rId1"/>
          <a:stretch/>
        </p:blipFill>
        <p:spPr>
          <a:xfrm>
            <a:off x="5638680" y="4495680"/>
            <a:ext cx="3124440" cy="1987560"/>
          </a:xfrm>
          <a:prstGeom prst="rect">
            <a:avLst/>
          </a:prstGeom>
          <a:ln w="0">
            <a:noFill/>
          </a:ln>
        </p:spPr>
      </p:pic>
      <p:sp>
        <p:nvSpPr>
          <p:cNvPr id="512" name="TextBox 4"/>
          <p:cNvSpPr/>
          <p:nvPr/>
        </p:nvSpPr>
        <p:spPr>
          <a:xfrm>
            <a:off x="228600" y="55627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y Wiki Addres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lmooreketresources.wikispaces.com/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13" name="Action Button: Custom 5"/>
          <p:cNvSpPr/>
          <p:nvPr/>
        </p:nvSpPr>
        <p:spPr>
          <a:xfrm>
            <a:off x="152280" y="5486400"/>
            <a:ext cx="5410440" cy="1371600"/>
          </a:xfrm>
          <a:custGeom>
            <a:avLst/>
            <a:gdLst>
              <a:gd name="textAreaLeft" fmla="*/ 88560 w 5410440"/>
              <a:gd name="textAreaRight" fmla="*/ 5321880 w 5410440"/>
              <a:gd name="textAreaTop" fmla="*/ 88560 h 1371600"/>
              <a:gd name="textAreaBottom" fmla="*/ 1283040 h 1371600"/>
            </a:gdLst>
            <a:ahLst/>
            <a:rect l="textAreaLeft" t="textAreaTop" r="textAreaRight" b="textAreaBottom"/>
            <a:pathLst>
              <a:path w="85187" h="21600">
                <a:moveTo>
                  <a:pt x="0" y="0"/>
                </a:moveTo>
                <a:lnTo>
                  <a:pt x="85187" y="0"/>
                </a:lnTo>
                <a:lnTo>
                  <a:pt x="85187" y="21600"/>
                </a:lnTo>
                <a:lnTo>
                  <a:pt x="0" y="21600"/>
                </a:lnTo>
                <a:close/>
              </a:path>
              <a:path fill="lightenLess" w="85187" h="21600">
                <a:moveTo>
                  <a:pt x="0" y="0"/>
                </a:moveTo>
                <a:lnTo>
                  <a:pt x="85187" y="0"/>
                </a:lnTo>
                <a:lnTo>
                  <a:pt x="83787" y="1400"/>
                </a:lnTo>
                <a:lnTo>
                  <a:pt x="1400" y="1400"/>
                </a:lnTo>
                <a:close/>
              </a:path>
              <a:path fill="darken" w="85187" h="21600">
                <a:moveTo>
                  <a:pt x="85187" y="0"/>
                </a:moveTo>
                <a:lnTo>
                  <a:pt x="85187" y="21600"/>
                </a:lnTo>
                <a:lnTo>
                  <a:pt x="83787" y="20200"/>
                </a:lnTo>
                <a:lnTo>
                  <a:pt x="83787" y="1400"/>
                </a:lnTo>
                <a:close/>
              </a:path>
              <a:path fill="darkenLess" w="85187" h="21600">
                <a:moveTo>
                  <a:pt x="85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787" y="20200"/>
                </a:lnTo>
                <a:close/>
              </a:path>
              <a:path fill="lighten" w="85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14" name="Action Button: Custom 6"/>
          <p:cNvSpPr/>
          <p:nvPr/>
        </p:nvSpPr>
        <p:spPr>
          <a:xfrm>
            <a:off x="152280" y="5562720"/>
            <a:ext cx="4496040" cy="914400"/>
          </a:xfrm>
          <a:custGeom>
            <a:avLst/>
            <a:gdLst>
              <a:gd name="textAreaLeft" fmla="*/ 59040 w 4496040"/>
              <a:gd name="textAreaRight" fmla="*/ 4437000 w 4496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06172" h="21600">
                <a:moveTo>
                  <a:pt x="0" y="0"/>
                </a:moveTo>
                <a:lnTo>
                  <a:pt x="106172" y="0"/>
                </a:lnTo>
                <a:lnTo>
                  <a:pt x="106172" y="21600"/>
                </a:lnTo>
                <a:lnTo>
                  <a:pt x="0" y="21600"/>
                </a:lnTo>
                <a:close/>
              </a:path>
              <a:path fill="lightenLess" w="106172" h="21600">
                <a:moveTo>
                  <a:pt x="0" y="0"/>
                </a:moveTo>
                <a:lnTo>
                  <a:pt x="106172" y="0"/>
                </a:lnTo>
                <a:lnTo>
                  <a:pt x="104772" y="1400"/>
                </a:lnTo>
                <a:lnTo>
                  <a:pt x="1400" y="1400"/>
                </a:lnTo>
                <a:close/>
              </a:path>
              <a:path fill="darken" w="106172" h="21600">
                <a:moveTo>
                  <a:pt x="106172" y="0"/>
                </a:moveTo>
                <a:lnTo>
                  <a:pt x="106172" y="21600"/>
                </a:lnTo>
                <a:lnTo>
                  <a:pt x="104772" y="20200"/>
                </a:lnTo>
                <a:lnTo>
                  <a:pt x="104772" y="1400"/>
                </a:lnTo>
                <a:close/>
              </a:path>
              <a:path fill="darkenLess" w="106172" h="21600">
                <a:moveTo>
                  <a:pt x="1061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772" y="20200"/>
                </a:lnTo>
                <a:close/>
              </a:path>
              <a:path fill="lighten" w="1061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15" name="Action Button: Custom 7"/>
          <p:cNvSpPr/>
          <p:nvPr/>
        </p:nvSpPr>
        <p:spPr>
          <a:xfrm>
            <a:off x="152280" y="5943600"/>
            <a:ext cx="6705720" cy="461880"/>
          </a:xfrm>
          <a:custGeom>
            <a:avLst/>
            <a:gdLst>
              <a:gd name="textAreaLeft" fmla="*/ 29880 w 6705720"/>
              <a:gd name="textAreaRight" fmla="*/ 6675840 w 6705720"/>
              <a:gd name="textAreaTop" fmla="*/ 29880 h 461880"/>
              <a:gd name="textAreaBottom" fmla="*/ 432000 h 461880"/>
            </a:gdLst>
            <a:ahLst/>
            <a:rect l="textAreaLeft" t="textAreaTop" r="textAreaRight" b="textAreaBottom"/>
            <a:pathLst>
              <a:path w="313368" h="21600">
                <a:moveTo>
                  <a:pt x="0" y="0"/>
                </a:moveTo>
                <a:lnTo>
                  <a:pt x="313368" y="0"/>
                </a:lnTo>
                <a:lnTo>
                  <a:pt x="313368" y="21600"/>
                </a:lnTo>
                <a:lnTo>
                  <a:pt x="0" y="21600"/>
                </a:lnTo>
                <a:close/>
              </a:path>
              <a:path fill="lightenLess" w="313368" h="21600">
                <a:moveTo>
                  <a:pt x="0" y="0"/>
                </a:moveTo>
                <a:lnTo>
                  <a:pt x="313368" y="0"/>
                </a:lnTo>
                <a:lnTo>
                  <a:pt x="311968" y="1400"/>
                </a:lnTo>
                <a:lnTo>
                  <a:pt x="1400" y="1400"/>
                </a:lnTo>
                <a:close/>
              </a:path>
              <a:path fill="darken" w="313368" h="21600">
                <a:moveTo>
                  <a:pt x="313368" y="0"/>
                </a:moveTo>
                <a:lnTo>
                  <a:pt x="313368" y="21600"/>
                </a:lnTo>
                <a:lnTo>
                  <a:pt x="311968" y="20200"/>
                </a:lnTo>
                <a:lnTo>
                  <a:pt x="311968" y="1400"/>
                </a:lnTo>
                <a:close/>
              </a:path>
              <a:path fill="darkenLess" w="313368" h="21600">
                <a:moveTo>
                  <a:pt x="3133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68" y="20200"/>
                </a:lnTo>
                <a:close/>
              </a:path>
              <a:path fill="lighten" w="3133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18"/>
                </a:solidFill>
                <a:latin typeface="Arial"/>
              </a:rPr>
              <a:t>KET Drama </a:t>
            </a:r>
            <a:r>
              <a:rPr b="1" lang="en-US" sz="4000" spc="-1" strike="noStrike">
                <a:solidFill>
                  <a:srgbClr val="ffcc18"/>
                </a:solidFill>
                <a:latin typeface="Arial"/>
              </a:rPr>
              <a:t>2</a:t>
            </a:r>
            <a:r>
              <a:rPr b="1" lang="en-US" sz="4000" spc="-1" strike="noStrike" baseline="30000">
                <a:solidFill>
                  <a:srgbClr val="ffcc18"/>
                </a:solidFill>
                <a:latin typeface="Arial"/>
              </a:rPr>
              <a:t>nd</a:t>
            </a:r>
            <a:r>
              <a:rPr b="1" lang="en-US" sz="4800" spc="-1" strike="noStrike">
                <a:solidFill>
                  <a:srgbClr val="ffcc1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cc18"/>
                </a:solidFill>
                <a:latin typeface="Arial"/>
              </a:rPr>
              <a:t>Ed.</a:t>
            </a:r>
            <a:r>
              <a:rPr b="1" lang="en-US" sz="4800" spc="-1" strike="noStrike">
                <a:solidFill>
                  <a:srgbClr val="ffcc18"/>
                </a:solidFill>
                <a:latin typeface="Arial"/>
              </a:rPr>
              <a:t> Toolkit</a:t>
            </a:r>
            <a:r>
              <a:rPr b="1" lang="en-US" sz="5400" spc="-1" strike="noStrike">
                <a:solidFill>
                  <a:srgbClr val="ffcc18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84" name="Picture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151080" cy="50007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4"/>
          <p:cNvSpPr/>
          <p:nvPr/>
        </p:nvSpPr>
        <p:spPr>
          <a:xfrm>
            <a:off x="3733920" y="1295280"/>
            <a:ext cx="5181480" cy="53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Ring Binder with lesson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plans and other print resource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ge One “Page to Stage”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D- ROM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y. Department of Education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D-ROM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ma Idea Card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s Toolkit Website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VHS tapes or DVDs with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performances and interview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rything correlated to  A.E.s          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with rubric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KET Drama Toolkit</a:t>
            </a:r>
            <a:r>
              <a:rPr b="1" lang="en-US" sz="5400" spc="-1" strike="noStrike">
                <a:solidFill>
                  <a:srgbClr val="ffcc1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Videos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151080" cy="500076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4"/>
          <p:cNvSpPr/>
          <p:nvPr/>
        </p:nvSpPr>
        <p:spPr>
          <a:xfrm>
            <a:off x="3886200" y="1447920"/>
            <a:ext cx="50292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out Drama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ormance Excerpt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buki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orytelling Sampler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89" name="Picture 12" descr="MPj03163570000[1]"/>
          <p:cNvPicPr/>
          <p:nvPr/>
        </p:nvPicPr>
        <p:blipFill>
          <a:blip r:embed="rId6"/>
          <a:stretch/>
        </p:blipFill>
        <p:spPr>
          <a:xfrm>
            <a:off x="4191120" y="3886200"/>
            <a:ext cx="41907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18"/>
                </a:solidFill>
                <a:latin typeface="Arial"/>
              </a:rPr>
              <a:t>Drama 2</a:t>
            </a:r>
            <a:r>
              <a:rPr b="1" lang="en-US" sz="4000" spc="-1" strike="noStrike" baseline="30000">
                <a:solidFill>
                  <a:srgbClr val="ffcc18"/>
                </a:solidFill>
                <a:latin typeface="Arial"/>
              </a:rPr>
              <a:t>nd</a:t>
            </a:r>
            <a:r>
              <a:rPr b="1" lang="en-US" sz="4000" spc="-1" strike="noStrike">
                <a:solidFill>
                  <a:srgbClr val="ffcc18"/>
                </a:solidFill>
                <a:latin typeface="Arial"/>
              </a:rPr>
              <a:t> Edition</a:t>
            </a:r>
            <a:br>
              <a:rPr sz="4000"/>
            </a:br>
            <a:br>
              <a:rPr sz="1400"/>
            </a:br>
            <a:endParaRPr b="1" lang="en-US" sz="40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Toolki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on Plan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ssary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ding to Drama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pecially for Primary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ma and Culture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s and Style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g Drama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Y Drama Resource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92" name="Content Placeholder 5" descr="marquis.jpg"/>
          <p:cNvPicPr/>
          <p:nvPr/>
        </p:nvPicPr>
        <p:blipFill>
          <a:blip r:embed="rId11"/>
          <a:stretch/>
        </p:blipFill>
        <p:spPr>
          <a:xfrm>
            <a:off x="0" y="1066680"/>
            <a:ext cx="4978440" cy="3733920"/>
          </a:xfrm>
          <a:prstGeom prst="rect">
            <a:avLst/>
          </a:prstGeom>
          <a:ln w="0">
            <a:noFill/>
          </a:ln>
        </p:spPr>
      </p:pic>
      <p:sp>
        <p:nvSpPr>
          <p:cNvPr id="593" name="TextBox 4"/>
          <p:cNvSpPr/>
          <p:nvPr/>
        </p:nvSpPr>
        <p:spPr>
          <a:xfrm>
            <a:off x="4952880" y="1295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ctions of the Ki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-228960" y="380520"/>
            <a:ext cx="48006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Music Toolkit</a:t>
            </a:r>
            <a:br>
              <a:rPr sz="4800"/>
            </a:br>
            <a:endParaRPr b="1" lang="en-US" sz="4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5960" y="15238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oolkit Components</a:t>
            </a: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Music Arts Toolkit DVDs- Over 12 hours of  Video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ld of Music  CD-ROM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sic Arts Toolkit  binder of Lesson Plans and Information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sic poster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sic Idea Card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s Toolkit Website Acces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96" name="Picture 11" descr=""/>
          <p:cNvPicPr/>
          <p:nvPr/>
        </p:nvPicPr>
        <p:blipFill>
          <a:blip r:embed="rId7"/>
          <a:stretch/>
        </p:blipFill>
        <p:spPr>
          <a:xfrm>
            <a:off x="4724280" y="-76320"/>
            <a:ext cx="4496040" cy="30481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4" descr="MCj04315010000[1]"/>
          <p:cNvPicPr/>
          <p:nvPr/>
        </p:nvPicPr>
        <p:blipFill>
          <a:blip r:embed="rId8"/>
          <a:stretch/>
        </p:blipFill>
        <p:spPr>
          <a:xfrm>
            <a:off x="6477120" y="41148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4496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cc18"/>
                </a:solidFill>
                <a:uFillTx/>
                <a:latin typeface="Arial"/>
              </a:rPr>
              <a:t>Music Toolkit</a:t>
            </a:r>
            <a:br>
              <a:rPr sz="4000"/>
            </a:br>
            <a:endParaRPr b="1" lang="en-US" sz="40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teractive World of Music CD:</a:t>
            </a: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deo, Audio files, images, information, and activities in three areas: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Making Music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Toolkit World of Music Tour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Listening Assessment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600" name="Picture 4" descr="violin"/>
          <p:cNvPicPr/>
          <p:nvPr/>
        </p:nvPicPr>
        <p:blipFill>
          <a:blip r:embed="rId1"/>
          <a:stretch/>
        </p:blipFill>
        <p:spPr>
          <a:xfrm rot="6315600">
            <a:off x="5771880" y="21520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4496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cc18"/>
                </a:solidFill>
                <a:uFillTx/>
                <a:latin typeface="Arial"/>
              </a:rPr>
              <a:t>Music Toolkit</a:t>
            </a:r>
            <a:br>
              <a:rPr sz="4000"/>
            </a:br>
            <a:endParaRPr b="1" lang="en-US" sz="40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6553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ree DVDs of Video:</a:t>
            </a: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orways to Music- 3 section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lvl="1" marL="779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 Old Music For New Ears Sampler 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lvl="1" marL="779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 Music Basics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lvl="1" marL="779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  A Passion For Music</a:t>
            </a: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sic Through Time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425160" indent="-4251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sic Around the World featuring: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i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ddle East/Northern Afric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th Americ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uth America</a:t>
            </a:r>
            <a:br>
              <a:rPr sz="2400"/>
            </a:b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603" name="Picture 4" descr="african drum 4"/>
          <p:cNvPicPr/>
          <p:nvPr/>
        </p:nvPicPr>
        <p:blipFill>
          <a:blip r:embed="rId4"/>
          <a:stretch/>
        </p:blipFill>
        <p:spPr>
          <a:xfrm>
            <a:off x="6647040" y="0"/>
            <a:ext cx="25732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228240" y="2895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oolkit Component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2 hours of  Video in 5 DVDs (3 brand new ones for a total of over 160 video segments!)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World of Dance and Music  CD-Rom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anded binder of Lesson Plans and Information correlated to 4.1 core conten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ncing Through Time” Timeline Poster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nce Idea Card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title"/>
          </p:nvPr>
        </p:nvSpPr>
        <p:spPr>
          <a:xfrm>
            <a:off x="0" y="2133720"/>
            <a:ext cx="876312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nce Toolkit 2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Edition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18"/>
                </a:solidFill>
                <a:latin typeface="Arial"/>
              </a:rPr>
              <a:t>KET Dance Toolkit</a:t>
            </a:r>
            <a:r>
              <a:rPr b="1" lang="en-US" sz="4400" spc="-1" strike="noStrike">
                <a:solidFill>
                  <a:srgbClr val="ffcc1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cc18"/>
                </a:solidFill>
                <a:latin typeface="Arial"/>
              </a:rPr>
              <a:t>DVDs</a:t>
            </a:r>
            <a:endParaRPr b="1" lang="en-US" sz="40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4419720" y="1143000"/>
            <a:ext cx="46479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Onstage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s of the World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aching Creative Dance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African Roo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s from Many Culture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Performance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Sense” Enhanced  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s of the America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609" name="Picture 4" descr="Copy (2) of home_dance"/>
          <p:cNvPicPr/>
          <p:nvPr/>
        </p:nvPicPr>
        <p:blipFill>
          <a:blip r:embed="rId9"/>
          <a:stretch/>
        </p:blipFill>
        <p:spPr>
          <a:xfrm>
            <a:off x="380880" y="12193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18"/>
                </a:solidFill>
                <a:latin typeface="Arial"/>
              </a:rPr>
              <a:t>Sections of the Dance Toolkit</a:t>
            </a:r>
            <a:endParaRPr b="1" lang="en-US" sz="40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the Toolki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sson Plan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lossary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ponding to Dance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pecially for Primary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ive Dance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and Culture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story and Style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Resource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ex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612" name="Picture 4" descr="home_dance"/>
          <p:cNvPicPr/>
          <p:nvPr/>
        </p:nvPicPr>
        <p:blipFill>
          <a:blip r:embed="rId11"/>
          <a:stretch/>
        </p:blipFill>
        <p:spPr>
          <a:xfrm>
            <a:off x="4876920" y="1981080"/>
            <a:ext cx="3124080" cy="20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18"/>
                </a:solidFill>
                <a:latin typeface="Arial"/>
              </a:rPr>
              <a:t>A typical Dance Toolkit lesson plan contains the following elements:</a:t>
            </a:r>
            <a:endParaRPr b="1" lang="en-US" sz="3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Grade level(s)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cademic expectation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Program of studie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re content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Essential question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ncept/objective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Portfolio-appropriate writing for the lesson</a:t>
            </a:r>
            <a:endParaRPr b="0" lang="en-US" sz="21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615" name="Picture 4" descr="1448626474_9ada1af836.jpg"/>
          <p:cNvPicPr/>
          <p:nvPr/>
        </p:nvPicPr>
        <p:blipFill>
          <a:blip r:embed="rId12"/>
          <a:stretch/>
        </p:blipFill>
        <p:spPr>
          <a:xfrm>
            <a:off x="4381560" y="2209680"/>
            <a:ext cx="42339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You should leave here today with…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brief overview of how to access KET services 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understanding of what the Arts toolkits are and what they are no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understanding of the materials and resources available in the Drama, Dance, Visual Arts, and Music Toolkit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 Information about the newest kit, the Dance Toolkit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ddition 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olkit options you will want to research further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cc18"/>
                </a:solidFill>
                <a:uFillTx/>
                <a:latin typeface="Arial"/>
              </a:rPr>
              <a:t>How to Order Arts Toolkits</a:t>
            </a:r>
            <a:endParaRPr b="1" lang="en-US" sz="40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To place your order, call Allison NeCamp at 800-945-9167 with PO or credit card number 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Or FAX the order form with PO number to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859-258-7399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Or mail the form with PO, check, or credit card information to: KET Tape Duplication, 600 Cooper Dr., Lexington, KY 40502-2296. 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18"/>
                </a:solidFill>
                <a:latin typeface="Arial"/>
              </a:rPr>
              <a:t>Make checks to KET. </a:t>
            </a:r>
            <a:r>
              <a:rPr b="1" i="1" lang="en-US" sz="2800" spc="-1" strike="noStrike">
                <a:solidFill>
                  <a:srgbClr val="ffcc18"/>
                </a:solidFill>
                <a:latin typeface="Arial"/>
              </a:rPr>
              <a:t>Note: </a:t>
            </a:r>
            <a:r>
              <a:rPr b="0" i="1" lang="en-US" sz="2800" spc="-1" strike="noStrike">
                <a:solidFill>
                  <a:srgbClr val="ffcc18"/>
                </a:solidFill>
                <a:latin typeface="Arial"/>
              </a:rPr>
              <a:t>Cannot ship outside the state of Kentucky.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618" name="Picture 4" descr=""/>
          <p:cNvPicPr/>
          <p:nvPr/>
        </p:nvPicPr>
        <p:blipFill>
          <a:blip r:embed="rId5"/>
          <a:stretch/>
        </p:blipFill>
        <p:spPr>
          <a:xfrm>
            <a:off x="6840360" y="4267080"/>
            <a:ext cx="230364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957"/>
                </a:solidFill>
                <a:latin typeface="Arial"/>
              </a:rPr>
              <a:t>For general information or to request a re-feed of a missed program</a:t>
            </a:r>
            <a:endParaRPr b="1" lang="en-US" sz="32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honda Moberly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800-432-0951 ext. 7261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moberly@ket.org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18"/>
                </a:solidFill>
                <a:latin typeface="Arial"/>
              </a:rPr>
              <a:t>You may use this PowerPoint in whole or in part but please cite KET as the source!</a:t>
            </a:r>
            <a:r>
              <a:rPr b="1" lang="en-US" sz="3200" spc="-1" strike="noStrike">
                <a:solidFill>
                  <a:srgbClr val="ffcc1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622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24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25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626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KET Educational Services Provided to Kentucky Schools</a:t>
            </a: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ructional Television (ITV) Programming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T EncycloMedia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s Toolkit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tance Learning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Resources    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kshop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cher’s Guides &amp; print materials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-news!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20" name="Picture 4" descr="MCj02810840000[1]"/>
          <p:cNvPicPr/>
          <p:nvPr/>
        </p:nvPicPr>
        <p:blipFill>
          <a:blip r:embed="rId10"/>
          <a:stretch/>
        </p:blipFill>
        <p:spPr>
          <a:xfrm>
            <a:off x="7162920" y="4038480"/>
            <a:ext cx="1734840" cy="2538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MCj02335950000[1]"/>
          <p:cNvPicPr/>
          <p:nvPr/>
        </p:nvPicPr>
        <p:blipFill>
          <a:blip r:embed="rId11"/>
          <a:stretch/>
        </p:blipFill>
        <p:spPr>
          <a:xfrm>
            <a:off x="7086600" y="3962520"/>
            <a:ext cx="1371600" cy="13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2"/>
          <p:cNvSpPr/>
          <p:nvPr/>
        </p:nvSpPr>
        <p:spPr>
          <a:xfrm>
            <a:off x="2514600" y="3808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d the Winner Is…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ET Arts Resources!</a:t>
            </a:r>
            <a:endParaRPr b="0" lang="en-US" sz="4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23" name="Picture 3" descr=""/>
          <p:cNvPicPr/>
          <p:nvPr/>
        </p:nvPicPr>
        <p:blipFill>
          <a:blip r:embed="rId1"/>
          <a:stretch/>
        </p:blipFill>
        <p:spPr>
          <a:xfrm>
            <a:off x="228600" y="227880"/>
            <a:ext cx="2085840" cy="222084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5"/>
          <p:cNvSpPr/>
          <p:nvPr/>
        </p:nvSpPr>
        <p:spPr>
          <a:xfrm>
            <a:off x="304920" y="2743200"/>
            <a:ext cx="8839080" cy="47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7 Best Instructional Media Award – Art To Heart: Early 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Childhood Creativity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7 Best Instructional Media Award- Visual Arts Toolki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 Best of the Best Award - Drama Arts Toolki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 Instructional Media-Instructional Media Product –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Drama Arts Toolkit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gram Production-Drama Narrative – Liz’s Circus Story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arvard  University’s Kennedy School  Ash Institute name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Arts Toolkit  Project one of top 25 Programs of the 2008 Innovations in American Government Awards Competition!</a:t>
            </a: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26" name="Picture 2" descr="Kennedy School Logo"/>
          <p:cNvPicPr/>
          <p:nvPr/>
        </p:nvPicPr>
        <p:blipFill>
          <a:blip r:embed="rId3"/>
          <a:stretch/>
        </p:blipFill>
        <p:spPr>
          <a:xfrm>
            <a:off x="736560" y="304920"/>
            <a:ext cx="7721640" cy="9903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C:\Documents and Settings\lmoore\Local Settings\Temporary Internet Files\Content.IE5\N5ZPB72M\MCj02992930000[1].wmf"/>
          <p:cNvPicPr/>
          <p:nvPr/>
        </p:nvPicPr>
        <p:blipFill>
          <a:blip r:embed="rId4"/>
          <a:stretch/>
        </p:blipFill>
        <p:spPr>
          <a:xfrm>
            <a:off x="6858000" y="4267080"/>
            <a:ext cx="228600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339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3"/>
          <p:cNvSpPr/>
          <p:nvPr/>
        </p:nvSpPr>
        <p:spPr>
          <a:xfrm>
            <a:off x="0" y="41148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0" y="391140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KET professional development production explores the importance of visual arts, music, dance, drama, and literature in the lives of infants, toddlers, and young children.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1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ght half hour programs- Available on KET 3 or can be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purchased on DVD with print materials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dience- early childhood teachers, parents, caregivers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site-  http://www.ket.org/arttoheart/ </a:t>
            </a: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31" name="AutoShape 5"/>
          <p:cNvSpPr/>
          <p:nvPr/>
        </p:nvSpPr>
        <p:spPr>
          <a:xfrm>
            <a:off x="2057400" y="6248520"/>
            <a:ext cx="4267080" cy="609480"/>
          </a:xfrm>
          <a:custGeom>
            <a:avLst/>
            <a:gdLst>
              <a:gd name="textAreaLeft" fmla="*/ 39240 w 4267080"/>
              <a:gd name="textAreaRight" fmla="*/ 4227840 w 4267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51149" h="21600">
                <a:moveTo>
                  <a:pt x="0" y="0"/>
                </a:moveTo>
                <a:lnTo>
                  <a:pt x="151149" y="0"/>
                </a:lnTo>
                <a:lnTo>
                  <a:pt x="151149" y="21600"/>
                </a:lnTo>
                <a:lnTo>
                  <a:pt x="0" y="21600"/>
                </a:lnTo>
                <a:close/>
              </a:path>
              <a:path fill="lightenLess" w="151149" h="21600">
                <a:moveTo>
                  <a:pt x="0" y="0"/>
                </a:moveTo>
                <a:lnTo>
                  <a:pt x="151149" y="0"/>
                </a:lnTo>
                <a:lnTo>
                  <a:pt x="149749" y="1400"/>
                </a:lnTo>
                <a:lnTo>
                  <a:pt x="1400" y="1400"/>
                </a:lnTo>
                <a:close/>
              </a:path>
              <a:path fill="darken" w="151149" h="21600">
                <a:moveTo>
                  <a:pt x="151149" y="0"/>
                </a:moveTo>
                <a:lnTo>
                  <a:pt x="151149" y="21600"/>
                </a:lnTo>
                <a:lnTo>
                  <a:pt x="149749" y="20200"/>
                </a:lnTo>
                <a:lnTo>
                  <a:pt x="149749" y="1400"/>
                </a:lnTo>
                <a:close/>
              </a:path>
              <a:path fill="darkenLess" w="151149" h="21600">
                <a:moveTo>
                  <a:pt x="151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749" y="20200"/>
                </a:lnTo>
                <a:close/>
              </a:path>
              <a:path fill="lighten" w="151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18"/>
                </a:solidFill>
                <a:latin typeface="Arial"/>
              </a:rPr>
              <a:t>Another Original  KET Arts Resource!</a:t>
            </a:r>
            <a:endParaRPr b="1" lang="en-US" sz="32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33" name="Picture 12" descr="arteymaslogowhite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2590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3" descr="ArteYMas1"/>
          <p:cNvPicPr/>
          <p:nvPr/>
        </p:nvPicPr>
        <p:blipFill>
          <a:blip r:embed="rId2"/>
          <a:stretch/>
        </p:blipFill>
        <p:spPr>
          <a:xfrm>
            <a:off x="5105520" y="3886200"/>
            <a:ext cx="3657600" cy="259092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14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36" name="Rectangle 1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18"/>
                </a:solidFill>
                <a:latin typeface="Arial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0" y="0"/>
            <a:ext cx="91440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ffe957"/>
                </a:solidFill>
                <a:latin typeface="Arial"/>
              </a:rPr>
              <a:t>KET Web Resources at</a:t>
            </a:r>
            <a:r>
              <a:rPr b="1" i="1" lang="en-US" sz="3600" spc="-1" strike="noStrike">
                <a:solidFill>
                  <a:srgbClr val="ffe957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http://www.ket.org/arts/</a:t>
            </a: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18"/>
              </a:solidFill>
              <a:latin typeface="Arial"/>
            </a:endParaRPr>
          </a:p>
        </p:txBody>
      </p:sp>
      <p:sp>
        <p:nvSpPr>
          <p:cNvPr id="539" name="AutoShape 5"/>
          <p:cNvSpPr/>
          <p:nvPr/>
        </p:nvSpPr>
        <p:spPr>
          <a:xfrm>
            <a:off x="5029200" y="29718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18"/>
              </a:solidFill>
              <a:latin typeface="Arial"/>
            </a:endParaRPr>
          </a:p>
        </p:txBody>
      </p:sp>
      <p:pic>
        <p:nvPicPr>
          <p:cNvPr id="540" name="Picture 8" descr=""/>
          <p:cNvPicPr/>
          <p:nvPr/>
        </p:nvPicPr>
        <p:blipFill>
          <a:blip r:embed="rId1"/>
          <a:stretch/>
        </p:blipFill>
        <p:spPr>
          <a:xfrm>
            <a:off x="0" y="638280"/>
            <a:ext cx="9144000" cy="621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18:20:56Z</dcterms:created>
  <dc:creator>Mick Jeffries</dc:creator>
  <dc:description/>
  <dc:language>en-US</dc:language>
  <cp:lastModifiedBy>lmoore</cp:lastModifiedBy>
  <dcterms:modified xsi:type="dcterms:W3CDTF">2008-12-04T05:17:45Z</dcterms:modified>
  <cp:revision>81</cp:revision>
  <dc:subject/>
  <dc:title>PowerPoint Presentation</dc:title>
</cp:coreProperties>
</file>